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B0CE-74BF-46DD-A1D1-3CC94AB4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F7B-0AAE-4741-9F80-83ACDB9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726-4E6A-4AC0-AC4D-7629BD3C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8EDC-3A35-4B15-8883-066B4C28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F0C-8979-4388-BB20-0D21F739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E68-3322-4840-B0F7-54BEF2F2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D3B-B43D-4CFA-A606-F93F08A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1F4-F0DD-4289-806C-C6376E30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B679-7A1A-46F7-B930-1149E0CB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29E-8A14-429A-919F-1ECCE704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8D9-3FC0-428F-B0C5-80AA7984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88F-3BF7-45F0-B9C2-D80EED1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441E-91C4-4D3A-8FCB-4599AFEA3C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018240" y="392904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 Internet browse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87440" y="5392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oca C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19080" y="48164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Su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8160" y="5445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luk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308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2680" y="4816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785960" y="3929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won the football European Championship in 2004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2860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equa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3640" y="4816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3816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34520" y="5445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19080" y="48164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86080" y="39290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050 : 50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equa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571920" y="392904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brings lu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1960" y="48164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41760" y="54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h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6320" y="544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1920" y="47973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41760" y="54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h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571920" y="3929040"/>
            <a:ext cx="25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brings lu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3071880" y="392904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liters contains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7800" y="5445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616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5800" y="4797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9080" y="48164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00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71880" y="3929040"/>
            <a:ext cx="344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liters contains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m</a:t>
            </a:r>
            <a:r>
              <a:rPr b="0" lang="de-CH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714680" y="392904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fingers do the Simpsons have on one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714680" y="3929040"/>
            <a:ext cx="58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fingers do the Simpsons have on one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0718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ountry is not a neighbor to Switzerlan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423400" y="48164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41760" y="54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407240" y="4797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14000" y="481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18240" y="392904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n Internet browse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0718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ch country is not a neighbor to Switzerlan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143080" y="3929040"/>
            <a:ext cx="52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tate does the Corsica island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20520" y="48164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42840" y="54450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409040" y="544500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409400" y="47973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1409400" y="47973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43080" y="3929040"/>
            <a:ext cx="52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tate does the Corsica island belong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does not use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422680" y="4816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442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410120" y="5445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410120" y="4797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544284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857680" y="3929040"/>
            <a:ext cx="39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does not use Eur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8840" y="392904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en was the first championship in ice cutting organiz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22252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22252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261800" y="5445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2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8"/>
          <p:cNvSpPr/>
          <p:nvPr/>
        </p:nvSpPr>
        <p:spPr>
          <a:xfrm>
            <a:off x="1258920" y="544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1261800" y="4797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28840" y="3929040"/>
            <a:ext cx="60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en was the first championship in ice cutting organiz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sides does a cub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2509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sides does a cub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71476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width of a footbal g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225760" y="54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264680" y="5445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126468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165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162160" y="392904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name of the capital city of Tu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13640" y="4816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19080" y="481644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tal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800" y="54450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Bu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5225400" y="4797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71476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width of a footbal g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86720" y="539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162160" y="392904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at is the name of the capital city of Turk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428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books about Harry Potter have been pu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428840" y="39290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ow many books about Harry Potter have been pu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28800" y="39290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inger is know for singing a song called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art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3640" y="4816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38520" y="544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anis Moriss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35240" y="544500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shlee Si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520" y="481644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eline D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28800" y="392904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singer is know for singing a song called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art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ill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n“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785960" y="3929040"/>
            <a:ext cx="55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Which country won the football European Championship in 2004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2680" y="4816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41760" y="54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9200" y="54450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0:58:49Z</dcterms:modified>
  <cp:revision>72</cp:revision>
  <dc:subject/>
  <dc:title>Folie 1</dc:title>
</cp:coreProperties>
</file>