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3D7-106F-4510-B0D1-B5E3848E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242-7716-405B-9B98-29455DB7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D1B-33D9-4537-8BC7-5A5197A7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AD2-8690-4184-9532-952BEA15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D2C-E0FE-4124-A9F2-EC96A41A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EF4-BA5C-487D-826E-51E16466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56D-8FAA-4490-B1C3-A98309CA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1EF-AFC0-42D4-B9BF-37D62408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C42-196C-41BB-8B0A-EEDF65B9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3F2-793A-4251-9283-0A33E4F1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9E7-C7BB-4898-8D3C-FC8C1E89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A8F-BD65-422D-86E0-767C135F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227D-8FE7-4877-97DC-5E85360911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733480" y="39290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yhledávač na internetu se jmen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2196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Ř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00200" y="39290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o byl fotbalovým mistrem Evropy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5002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5002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714840" y="3929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 nosí štěst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2304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rc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440680" y="5445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ř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5600" y="54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ů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10840" y="4797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ama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440680" y="5445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ř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14840" y="3929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 nosí štěst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286080" y="392904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litrů obsahu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286080" y="392904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litrů obsahu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428920" y="3929040"/>
            <a:ext cx="47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prstů mají Simpsonovi na jedné ru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428920" y="3929040"/>
            <a:ext cx="47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prstů mají Simpsonovi na jedné ru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á země nesousedí se Švýcarsk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24120" y="48164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4212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7960" y="47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á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733480" y="39290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yhledávač na internetu se jmen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4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á země nesousedí se Švýcarsk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71476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jaké zemi patří ostrov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20880" y="4816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á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45000" y="5445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976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40976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71476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jaké zemi patří ostrov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3071880" y="392904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jaké zemi se neplatí eur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2304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4176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8680" y="544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10840" y="4797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44176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71880" y="392904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jaké zemi se neplatí eur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857240" y="39290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y se prvně konalo mistrovství světa v řezání le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857240" y="39290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y se prvně konalo mistrovství světa v řezání le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429000" y="392904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hran má krych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429000" y="392904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hran má krych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289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široká je fotbalová brá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88760" y="392904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se jmenuje hlavní město Turec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9289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široká je fotbalová brá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88760" y="392904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se jmenuje hlavní město Turec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714760" y="39290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knih o Harrym Pottero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714760" y="39290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knih o Harrym Pottero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8596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terá zpěvačka zpívá písničku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8596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terá zpěvačka zpívá písničku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00200" y="39290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o byl fotbalovým mistrem Evropy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8680" y="48164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2196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Ř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4212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812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2:30:21Z</dcterms:modified>
  <cp:revision>69</cp:revision>
  <dc:subject/>
  <dc:title>Folie 1</dc:title>
</cp:coreProperties>
</file>