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AD75-46FD-4A42-A26D-4C7EA0EF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5E6F-6AD8-4310-9893-59CB0A76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DC6-A246-4DC5-917E-9A5A33A4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E8F-7051-477A-9D94-59B9806D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EBE-B1F8-4435-9756-1CCBADCC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A06C-133B-4165-BC6E-F174A83B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8D0E-30CA-4274-9219-1FE84960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C44-D12B-49B8-8C09-702987A0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A94C-9A69-433B-B28E-EF04746B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02D-AFB9-4283-9F12-47016696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A184-C45A-4350-9AA8-65DBE1F1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3CF4-3C3F-47D5-BB90-158A07AC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FA3D-A14A-4135-8930-FCCE684A9DB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129040" y="400536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 nom 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teur de recherch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populaire es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87440" y="5392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oca 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38160" y="4797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u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8160" y="5445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418000" y="481644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Grèce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85880" y="39290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elle équipe est devenu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l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hampionne d'Europe de football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 2004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1756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228600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fait 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13640" y="4816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3816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3452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fait 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340000" y="39337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l objet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port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c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419080" y="48164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mir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095080" y="5445000"/>
            <a:ext cx="24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f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r à cheval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334520" y="5445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406160" y="479736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 d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ama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2340000" y="39337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l objet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port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c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438160" y="54450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f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r à cheval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216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484360" y="3933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de litre y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il dans u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3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437800" y="5445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406160" y="5445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405800" y="4797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484360" y="3933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de litre y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il dans u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3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042920" y="4005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mbien y a-t-il de doigts à la mai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e 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p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ons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1042920" y="4005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mbien y a-t-il de doigts à la main de 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p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ons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908000" y="400536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 pays n'a pas de frontière avec la Suisse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420160" y="481644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llemag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37800" y="544500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406520" y="5445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405800" y="47973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129040" y="400536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 nom 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moteur de recherch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populaire es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908000" y="400536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 pays n'a pas de frontière avec la Suisse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06520" y="5445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979640" y="4005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À  quel pays appartient la Cors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419080" y="48164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438520" y="54450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406520" y="5445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405800" y="4797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1979640" y="4005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À  quel pays appartient la Cors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40328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1405440" y="479736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165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547640" y="4005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 pays n'utilise pas l'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418720" y="481644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438880" y="5445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40688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Fin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407240" y="479736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llem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547640" y="4005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 pays n'utilise pas l'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438880" y="5445000"/>
            <a:ext cx="14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58920" y="3933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n quelle année a eu lie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 premièr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upe du monde de sciage de gla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22252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22252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26180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8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1258920" y="3933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n quelle année a eu lieu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 première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upe du monde de sciage de gla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258920" y="544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016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522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22180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835280" y="3933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ombien 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rête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un cu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1835280" y="3933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ombien 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rête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un cu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286000" y="400068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le est la largeur d'un but de football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225760" y="54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264680" y="54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6468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576520" y="3929040"/>
            <a:ext cx="38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Quelle est la capitale de la Turqui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13640" y="48164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stan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tal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800" y="5445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Bu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1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86000" y="400068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Quelle est la largeur d'un but de football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576520" y="3929040"/>
            <a:ext cx="38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Quelle est la capitale de la Turqui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547640" y="393372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y a t-il de livres dans la série Harry Potter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380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547640" y="393372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ombien y a t-il de livres dans la série Harry Potter 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70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214720" y="39290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ui chantait la chanson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313640" y="48164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438520" y="544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lanis Moriss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335240" y="5445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shlee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214720" y="39290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ui chantait la chanson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85880" y="39290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elle équipe est devenu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l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hampionne d'Europe de football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n 2004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14360" y="4816440"/>
            <a:ext cx="156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llemag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418000" y="4816440"/>
            <a:ext cx="12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Grèce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437800" y="544500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335240" y="5445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Angle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2:42:20Z</dcterms:modified>
  <cp:revision>72</cp:revision>
  <dc:subject/>
  <dc:title>Folie 1</dc:title>
</cp:coreProperties>
</file>