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3E3-B6B5-416B-9E44-78B1178F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B4D-C19D-4598-84A1-D0CE470E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46E-F47B-4D23-A0B5-1236774A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C2B-31A6-4C11-8148-8BC36CDB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5BD-26FF-4AD2-ACF7-2925BD4B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FBD-3817-4556-B711-93474E90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C3E-8D8E-491F-B375-D6C8A979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4BD-40C1-4DA0-BBA1-9BFA6411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466-E7D5-4641-9AFC-6403136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364-85E3-4C90-A3A4-3D557C85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ED7-7DE5-4AC9-85B8-635AA6DE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59D-4035-4B85-B36A-8ABC8299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160C-1E7F-4B33-9AAF-71A34B93F5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290680" y="392904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st eine Suchmaschine im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91040" y="5392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5423400" y="481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udapest ist die Hauptstadt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643040" y="39290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nennt man die einzige weibliche Figur beim Sch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317600" y="48164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rst 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421960" y="48164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442840" y="544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ad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338840" y="54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äu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5421960" y="48164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643040" y="39290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nennt man die einzige weibliche Figur beim Sch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500200" y="3929040"/>
            <a:ext cx="44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bringt laut einem Sprichwort Glü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17600" y="48164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ü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423760" y="48164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ie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443200" y="5445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che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334880" y="5445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fe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443200" y="5445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che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0200" y="3929040"/>
            <a:ext cx="44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bringt laut einem Sprichwort Glü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928800" y="39290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haben Tennis, Tischtennis, Volleyball und Badminton gemeins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318680" y="481644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chlä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407200" y="4816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439960" y="5445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341720" y="5445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under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439960" y="5445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39290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haben Tennis, Tischtennis, Volleyball und Badminton gemeins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071720" y="39290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Finger haben die Mitglieder der Simpsons an einer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096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071720" y="39290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Finger haben die Mitglieder der Simpsons an einer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21472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Land grenzt nicht an die Schwei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419800" y="48164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438160" y="5445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0652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405800" y="4797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90680" y="392904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st eine Suchmaschine im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140652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21472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Land grenzt nicht an die Schwei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235728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Zu welchem Land gehört die Insel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225400" y="4797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22720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26612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267200" y="47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1267200" y="47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35728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Zu welchem Land gehört die Insel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857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 welchem Land kann man nicht mit Euro zah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227920" y="47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226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266840" y="5445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268640" y="4797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448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226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857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 welchem Land kann man nicht mit Euro zah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448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14308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nstrument ist kein Blasinstru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756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Xylop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r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648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larin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4320" y="4797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b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522756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Xylop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14308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nstrument ist kein Blasinstru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78604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Kanten hat ein Würf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222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22324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2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180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1262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78604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Kanten hat ein Würf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3000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breit ist ein Fussball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64680" y="54450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937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92360" y="3929040"/>
            <a:ext cx="38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he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ß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t die Hauptstadt der Türk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000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breit ist ein Fussball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52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92360" y="3929040"/>
            <a:ext cx="38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he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ß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t die Hauptstadt der Türk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857240" y="39290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Harry Potter Bücher sind bisher erschie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944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4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1312920" y="5392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289120" y="54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857240" y="39290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Harry Potter Bücher sind bisher erschie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928880" y="392904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er sang den berühmten Hit 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31760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42700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44716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34316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42700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928880" y="392904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er sang den berühmten Hit 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udapest ist die Hauptstadt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320480" y="48164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lowe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23400" y="481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4284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oa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341000" y="54450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umä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03:27Z</dcterms:modified>
  <cp:revision>56</cp:revision>
  <dc:subject/>
  <dc:title>Folie 1</dc:title>
</cp:coreProperties>
</file>